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910E-C003-42E1-BFB6-2EA3C08A9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64FA-ACE2-4691-A4F5-2CD5896F7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B783-A527-4315-BF04-1E42481FA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9489-7236-4F7D-9309-CE7E003EB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5F2D1-417E-4987-8E6F-F0E51EF43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30221-5021-4930-85A3-FF191540A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2DA0B-6B8E-4D2C-9EC3-E29C2479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3B081-85C7-4FA3-B414-A3181A26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541F-0AA7-401D-B791-E237279D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C3034-D297-4626-B420-6FF6B8A97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0DFB4-1461-4FDA-A7CA-E4D5A19B4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FD94-6250-4014-A363-4A687044A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EB104-6F30-45D0-9957-23EF25D91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AF74F-79F9-4B59-9865-81C3DB50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BF15-921A-4CC9-997D-084E0F08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EF86D-E1DD-45B6-B58E-67158195B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3CAB6-C66E-462B-9B06-581030A8B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2418C-7D08-4569-8A2E-ABDFA503A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A3AE72-8029-4890-80BF-34C43364B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0DB5E9-12EF-4AF1-A785-86895747F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B0688-74D6-44B1-9DA9-4768FE367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D42F0-3F1A-4846-B74C-F99C4676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9E24-4080-435C-A2AE-FE81B32E7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5C2E2B-FECA-4C1C-B4EF-6DE2CFF83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338C7-BDB1-4212-92D6-C90776DB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35C579-3A37-4820-9C7B-37F4AFC9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A8D4C-2080-4E0B-8C48-B72BA92C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CE992-70F8-4DB3-AA8C-0B5D98DD8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21D0CC-96E5-4CBD-AD3A-38EA30EB6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2237D-F444-4911-ACD7-0A779CEC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11266A-3F15-4617-9907-BA5A640B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4AA291-AADB-496C-B17D-64D4CEA57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9EAE4-63B7-4B3D-BEE2-40A4C049E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68F7-48CD-4674-9375-282C13BC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74FF5-56CC-4171-A122-788E164C1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118A6-F66B-4654-B81D-9822B3B2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B4782C-104C-4360-BFA8-95C53D394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C34749-C5E5-4722-903C-6AAAB2A8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D666B1-2181-4AD6-8812-306AC566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ED4329-F36F-476A-BEE8-C3B72454C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D3765-2178-44E8-B3F2-2887C966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A05A9-90D5-4AF3-AA40-C3800AE94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E4136-7193-4561-A857-9EBB2448A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C77A-C1CB-4D04-8676-72491F54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9BA2-9188-4785-9E99-399CF461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871C-F7BC-4411-BCD2-D2FD5CE06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9444-595B-4C2D-8E63-206CCA6FA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172A-53B9-45F5-A82F-0B32F71AA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4375F-4760-4AE0-A87E-B4856497D50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6807A-F139-41D5-9206-F38C1AFFCC11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61EA-5F44-4848-99BB-31067A778B9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90DD5-5807-44BE-9083-D33D7775844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 txBox="1"/>
          <p:nvPr/>
        </p:nvSpPr>
        <p:spPr>
          <a:xfrm>
            <a:off x="457200" y="9442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tegration by parts can be used to evaluate complex integrals. For each equation, assign parts to variables following the equation below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Object 3"/>
              <p:cNvSpPr txBox="1"/>
              <p:nvPr/>
            </p:nvSpPr>
            <p:spPr>
              <a:xfrm>
                <a:off x="1484280" y="2908440"/>
                <a:ext cx="5907240" cy="15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ud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du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457200" y="791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ake the problem below as an example. Assign parts of the integral to be either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u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or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dv.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o determine which part should be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, follow the acronym </a:t>
            </a:r>
            <a:r>
              <a:rPr b="1" lang="en-US" sz="2600" spc="-1" strike="noStrike">
                <a:solidFill>
                  <a:srgbClr val="000000"/>
                </a:solidFill>
                <a:latin typeface="Constantia"/>
              </a:rPr>
              <a:t>LIPET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garithm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nver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olynomial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xponential Function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igonometry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9" name="Object 2"/>
              <p:cNvSpPr txBox="1"/>
              <p:nvPr/>
            </p:nvSpPr>
            <p:spPr>
              <a:xfrm>
                <a:off x="2438280" y="4572000"/>
                <a:ext cx="375156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457200" y="837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this equation, there are no logarithms or inverse functions, but there is a polynomial. Because of this,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u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=     , and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dv=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n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x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2"/>
              <p:cNvSpPr txBox="1"/>
              <p:nvPr/>
            </p:nvSpPr>
            <p:spPr>
              <a:xfrm>
                <a:off x="1219320" y="1523880"/>
                <a:ext cx="3808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" name="Object 3"/>
              <p:cNvSpPr txBox="1"/>
              <p:nvPr/>
            </p:nvSpPr>
            <p:spPr>
              <a:xfrm>
                <a:off x="1600200" y="2971800"/>
                <a:ext cx="228600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Object 4"/>
              <p:cNvSpPr txBox="1"/>
              <p:nvPr/>
            </p:nvSpPr>
            <p:spPr>
              <a:xfrm>
                <a:off x="4565520" y="3200400"/>
                <a:ext cx="297828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8679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Now, we must solve for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du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d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v.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To do this, differentiate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u 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d integrate </a:t>
            </a:r>
            <a:r>
              <a:rPr b="0" i="1" lang="en-US" sz="2600" spc="-1" strike="noStrike">
                <a:solidFill>
                  <a:srgbClr val="000000"/>
                </a:solidFill>
                <a:latin typeface="Constantia"/>
              </a:rPr>
              <a:t>dv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2"/>
              <p:cNvSpPr txBox="1"/>
              <p:nvPr/>
            </p:nvSpPr>
            <p:spPr>
              <a:xfrm>
                <a:off x="990720" y="2157480"/>
                <a:ext cx="2743200" cy="34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" name="Object 3"/>
              <p:cNvSpPr txBox="1"/>
              <p:nvPr/>
            </p:nvSpPr>
            <p:spPr>
              <a:xfrm>
                <a:off x="4379760" y="2286000"/>
                <a:ext cx="4154760" cy="337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sin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57200" y="83772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efer back to the equation given on the first slide, and substitute the corresponding parts accordingly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" name="Object 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Object 3"/>
              <p:cNvSpPr txBox="1"/>
              <p:nvPr/>
            </p:nvSpPr>
            <p:spPr>
              <a:xfrm>
                <a:off x="2260440" y="2133720"/>
                <a:ext cx="387360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ud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uv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du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" name="Object 4"/>
              <p:cNvSpPr txBox="1"/>
              <p:nvPr/>
            </p:nvSpPr>
            <p:spPr>
              <a:xfrm>
                <a:off x="3841920" y="3289320"/>
                <a:ext cx="146016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" name="Object 5"/>
              <p:cNvSpPr txBox="1"/>
              <p:nvPr/>
            </p:nvSpPr>
            <p:spPr>
              <a:xfrm>
                <a:off x="1752480" y="3594240"/>
                <a:ext cx="490716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457200" y="791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this case, we are left with another integral which is too complex, meaning we must integrate by parts again. Following the LIPET acronym, u=2x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3" name="Object 2"/>
              <p:cNvSpPr txBox="1"/>
              <p:nvPr/>
            </p:nvSpPr>
            <p:spPr>
              <a:xfrm>
                <a:off x="1285920" y="2514600"/>
                <a:ext cx="2448000" cy="33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u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t xml:space="preserve">x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2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  <m:r>
                          <m:t xml:space="preserve">=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4" name="Object 3"/>
              <p:cNvSpPr txBox="1"/>
              <p:nvPr/>
            </p:nvSpPr>
            <p:spPr>
              <a:xfrm>
                <a:off x="4267080" y="2438280"/>
                <a:ext cx="4240440" cy="335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  <m:r>
                              <m:t xml:space="preserve">=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s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xdx</m:t>
                                </m:r>
                              </m:e>
                            </m:nary>
                          </m:e>
                        </m:nary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172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bstitute the parts from the second integration into the result from the first integrati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2"/>
              <p:cNvSpPr txBox="1"/>
              <p:nvPr/>
            </p:nvSpPr>
            <p:spPr>
              <a:xfrm>
                <a:off x="609480" y="3352680"/>
                <a:ext cx="791208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rPr>
                            <m:lit/>
                            <m:nor/>
                          </m:rPr>
                          <m:t xml:space="preserve">x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0202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nally, integrate the last part of the equation, yielding a final answer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8" name="Object 2"/>
              <p:cNvSpPr txBox="1"/>
              <p:nvPr/>
            </p:nvSpPr>
            <p:spPr>
              <a:xfrm>
                <a:off x="338040" y="3276720"/>
                <a:ext cx="850104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5T14:28:29Z</dcterms:created>
  <dc:creator> </dc:creator>
  <dc:description/>
  <dc:language>en-US</dc:language>
  <cp:lastModifiedBy> </cp:lastModifiedBy>
  <dcterms:modified xsi:type="dcterms:W3CDTF">2009-06-08T14:07:15Z</dcterms:modified>
  <cp:revision>9</cp:revision>
  <dc:subject/>
  <dc:title>Integration by Parts</dc:title>
</cp:coreProperties>
</file>