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53763-7595-4F9B-94C2-34D9DD58E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C126B-2A81-4675-B54F-80D24C288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00D56-19F2-4A10-B4BB-6F0FB36BC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6755D-1467-4E1A-A950-55C07AA47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EDB8F-77F6-4ADD-8E2B-9F5DA8641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F2AEF-D5F2-42EB-95DE-51116E4FD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F843F-6644-448E-B6C4-13E381D60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BA581-8B8F-4F9A-A1E7-CE766B300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5A620-AD70-4BF4-AB2F-D7B7D5086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30EB1-CC19-40C0-8C44-8125D49DE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CDD60-9F46-428C-B9C6-00BF56414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FA8D4-240A-4754-8A17-1042812D5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ECB19-5C0E-459F-9C65-20DB2D9AF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F6F27-1287-4D57-9BB1-66E0F72CB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ABC92-E768-44DA-8BA0-E9BC1959C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242B0-7BD2-4104-A092-4585C5692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DED58-D1AC-4B42-B211-EFD9B5E0E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F29EEB-E775-4D2F-B5A1-E13F10581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FAC72E-F4EF-4EA4-BA76-9418663EB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4E4ED0-1ECB-484D-AAF2-A3F44221B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E223BE-3BD9-41E4-9A2F-D90384E22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5F011D-5BCE-44D0-AA53-CFA73024A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7A05D-6EDC-49BD-9E8F-C09102D80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8EC728-F99C-488F-B387-D42F5DF57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04BD8C-D3C8-4503-8022-5C3728D7C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03660F-EF71-4DA2-8E28-67E6C9A9B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F8AB9E-9218-41C8-B488-D098C6F06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DAFC6B-A028-414B-A821-95A9DEDAB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EF3166-17B4-4169-9007-04A269047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A76D4C-3FDF-4DF5-AC6C-0F46E4B96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79CC38-C854-4047-BBF9-99630AE20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7A37D3-627A-43A8-A37C-3B531B1DD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2F9483-2295-448B-8A08-29BA594DE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C2EE8-AEE0-4E74-BC33-905152C35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C58B53-A1E1-43D9-A6FC-FEBC6B55B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1B8E63-46C0-4078-B357-C9825E326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62ACB0-3C29-4547-A356-CE2B4B3F8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E92F0E-3F79-4B78-BFDF-A12E8CDA5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D31ED5-94F8-410A-9FA0-D4195AF28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5E9DCE-D60B-40FD-86CF-E97522B48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FFBDCB-EAF5-4F87-A2F9-E694A2F04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A9443C-3CAC-425B-A556-4743755F2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29ADB4-AC1A-4567-AC27-AA042BDAB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E93B0-00E3-42DD-96F4-7C913328A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C4B22-26BC-4F4D-B7BC-75C7F3B61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D3A16-D5C3-404D-BEE9-2DF84231E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CD679-5091-4265-A4D1-90F586015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9BE66-2936-4761-89AD-E6028760D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B414B-C9D6-4F4C-AF87-FBEB4D0E654B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D9523-3EEC-429A-90A3-5498D682E2A4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3EC4D-C00C-4191-90C0-D1F240566DCA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83E97-6222-4CBF-9462-DF5847CB1BCF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1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308800" cy="190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457200" y="9442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ntegration by parts can be used to evaluate complex integrals. For each equation, assign parts to variables following the equation below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7" name="Object 3"/>
              <p:cNvSpPr txBox="1"/>
              <p:nvPr/>
            </p:nvSpPr>
            <p:spPr>
              <a:xfrm>
                <a:off x="1484280" y="2908440"/>
                <a:ext cx="5907240" cy="15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udv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uv</m:t>
                        </m:r>
                        <m:r>
                          <m:t xml:space="preserve">−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vdu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457200" y="791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ake the problem below as an example. Assign parts of the integral to be either </a:t>
            </a: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u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or </a:t>
            </a: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dv.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o determine which part should be </a:t>
            </a: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u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, follow the acronym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LIPET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ogarithms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nvers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olynomial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xponential Function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rigonometry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9" name="Object 2"/>
              <p:cNvSpPr txBox="1"/>
              <p:nvPr/>
            </p:nvSpPr>
            <p:spPr>
              <a:xfrm>
                <a:off x="2438280" y="4572000"/>
                <a:ext cx="3751560" cy="144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rPr>
                            <m:lit/>
                            <m:nor/>
                          </m:rPr>
                          <m:t xml:space="preserve">x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457200" y="8377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n this equation, there are no logarithms or inverse functions, but there is a polynomial. Because of this, </a:t>
            </a: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u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=     , and </a:t>
            </a: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dv=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n</a:t>
            </a: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x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1" name="Object 2"/>
              <p:cNvSpPr txBox="1"/>
              <p:nvPr/>
            </p:nvSpPr>
            <p:spPr>
              <a:xfrm>
                <a:off x="1219320" y="1523880"/>
                <a:ext cx="38088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" name="Object 3"/>
              <p:cNvSpPr txBox="1"/>
              <p:nvPr/>
            </p:nvSpPr>
            <p:spPr>
              <a:xfrm>
                <a:off x="1600200" y="2971800"/>
                <a:ext cx="228600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" name="Object 4"/>
              <p:cNvSpPr txBox="1"/>
              <p:nvPr/>
            </p:nvSpPr>
            <p:spPr>
              <a:xfrm>
                <a:off x="4565520" y="3200400"/>
                <a:ext cx="2978280" cy="85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v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457200" y="86796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Now, we must solve for </a:t>
            </a: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du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nd </a:t>
            </a: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v.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To do this, differentiate </a:t>
            </a: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u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nd integrate </a:t>
            </a: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dv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5" name="Object 2"/>
              <p:cNvSpPr txBox="1"/>
              <p:nvPr/>
            </p:nvSpPr>
            <p:spPr>
              <a:xfrm>
                <a:off x="990720" y="2157480"/>
                <a:ext cx="2743200" cy="348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u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u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u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xd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Object 3"/>
              <p:cNvSpPr txBox="1"/>
              <p:nvPr/>
            </p:nvSpPr>
            <p:spPr>
              <a:xfrm>
                <a:off x="4379760" y="2286000"/>
                <a:ext cx="4154760" cy="33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x</m:t>
                        </m:r>
                      </m:e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v</m:t>
                            </m:r>
                            <m:r>
                              <m:t xml:space="preserve">=</m:t>
                            </m:r>
                            <m:nary>
                              <m:naryPr>
                                <m:chr m:val="∫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</m:nary>
                          </m:e>
                        </m:nary>
                      </m:e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457200" y="8377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Refer back to the equation given on the first slide, and substitute the corresponding parts accordingly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8" name="Object 2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Object 3"/>
              <p:cNvSpPr txBox="1"/>
              <p:nvPr/>
            </p:nvSpPr>
            <p:spPr>
              <a:xfrm>
                <a:off x="2260440" y="2133720"/>
                <a:ext cx="3873600" cy="99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udv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uv</m:t>
                        </m:r>
                        <m:r>
                          <m:t xml:space="preserve">−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vdu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" name="Object 4"/>
              <p:cNvSpPr txBox="1"/>
              <p:nvPr/>
            </p:nvSpPr>
            <p:spPr>
              <a:xfrm>
                <a:off x="3841920" y="3289320"/>
                <a:ext cx="146016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r>
                      <m:t xml:space="preserve">+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rPr>
                            <m:lit/>
                            <m:nor/>
                          </m:rPr>
                          <m:t xml:space="preserve">x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" name="Object 5"/>
              <p:cNvSpPr txBox="1"/>
              <p:nvPr/>
            </p:nvSpPr>
            <p:spPr>
              <a:xfrm>
                <a:off x="1752480" y="3594240"/>
                <a:ext cx="4907160" cy="97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r>
                      <m:t xml:space="preserve">+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rPr>
                            <m:lit/>
                            <m:nor/>
                          </m:rPr>
                          <m:t xml:space="preserve">x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457200" y="791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n this case, we are left with another integral which is too complex, meaning we must integrate by parts again. Following the LIPET acronym, u=2x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3" name="Object 2"/>
              <p:cNvSpPr txBox="1"/>
              <p:nvPr/>
            </p:nvSpPr>
            <p:spPr>
              <a:xfrm>
                <a:off x="1285920" y="2514600"/>
                <a:ext cx="2448000" cy="335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u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u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2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u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" name="Object 3"/>
              <p:cNvSpPr txBox="1"/>
              <p:nvPr/>
            </p:nvSpPr>
            <p:spPr>
              <a:xfrm>
                <a:off x="4267080" y="2438280"/>
                <a:ext cx="4240440" cy="335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rPr>
                            <m:lit/>
                            <m:nor/>
                          </m:rPr>
                          <m:t xml:space="preserve">xdx</m:t>
                        </m:r>
                      </m:e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v</m:t>
                            </m:r>
                            <m:r>
                              <m:t xml:space="preserve">=</m:t>
                            </m:r>
                            <m:nary>
                              <m:naryPr>
                                <m:chr m:val="∫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xdx</m:t>
                                </m:r>
                              </m:e>
                            </m:nary>
                          </m:e>
                        </m:nary>
                      </m:e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457200" y="11728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ubstitute the parts from the second integration into the result from the first integration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6" name="Object 2"/>
              <p:cNvSpPr txBox="1"/>
              <p:nvPr/>
            </p:nvSpPr>
            <p:spPr>
              <a:xfrm>
                <a:off x="609480" y="3352680"/>
                <a:ext cx="7912080" cy="113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x</m:t>
                    </m:r>
                    <m:r>
                      <m:t xml:space="preserve">−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rPr>
                            <m:lit/>
                            <m:nor/>
                          </m:rPr>
                          <m:t xml:space="preserve">x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457200" y="10202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nally, integrate the last part of the equation, yielding a final answer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8" name="Object 2"/>
              <p:cNvSpPr txBox="1"/>
              <p:nvPr/>
            </p:nvSpPr>
            <p:spPr>
              <a:xfrm>
                <a:off x="338040" y="3276720"/>
                <a:ext cx="8501040" cy="88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5T14:28:29Z</dcterms:created>
  <dc:creator> </dc:creator>
  <dc:description/>
  <dc:language>en-US</dc:language>
  <cp:lastModifiedBy> </cp:lastModifiedBy>
  <dcterms:modified xsi:type="dcterms:W3CDTF">2009-06-08T14:07:15Z</dcterms:modified>
  <cp:revision>9</cp:revision>
  <dc:subject/>
  <dc:title>Integration by Parts</dc:title>
</cp:coreProperties>
</file>