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566-A244-43FE-B516-9BA4379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F42-FD86-47BB-A119-569A4E0D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65E-897B-4BC3-B025-72217400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3B2-CD87-4ABC-9104-1A5EDD4E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D2E7-A405-4247-BCFD-8EF0B3D4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B64E-7751-4AE2-AEA9-96A4D1FB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16C9-1741-4BB4-A755-1BFD372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E7B7-7904-458C-848B-B17E4CC8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62CD-ED6C-4378-9DE6-E799BDD4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8AA1-1F44-4FF0-A434-3D120DC3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A7C0-9E35-4AD5-B6A2-0917659A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928-740C-4DBB-96B2-FBBD0461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38AF-C95B-44B3-A383-B6B87F97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73B8-68A8-4054-8849-8389558A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31FD-5BA9-42A6-AE93-BBE5AD2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CDAC-42B9-422F-9369-7D078F8F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5D6F-282A-47DF-943C-9126F5F1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8B8E-F557-4A22-8773-B69E533E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7D8B-3370-4C3A-8F95-98EED6F3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5C7A-1105-4FE8-9045-BC26DF28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F2DF-536F-4780-B0EE-164691F7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B7A5-BA51-479A-BF93-CC933936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AE5-7AF3-4BB7-ADB8-4C50501F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A056-C8B5-4AA1-9440-A62446F0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2273-8039-4F2C-85E4-B1D83394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9EA3-E38E-4CBE-8226-41C03400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9FD5-9369-4B74-AD7F-0423407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439A-016D-4C1F-AD70-71C24152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13A0-BFCA-44F2-A0D7-2AE67D3E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08E6B-E732-4B2A-8B00-C2726F13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032C-0BA7-4FB7-94FF-F854768F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078C-41FD-4B03-9D38-4268324C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21F40-BA3D-4D2A-A216-373908B0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8A4-9E7C-4F3E-AC7B-F67A9295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CC9AF-96F6-4856-B094-45DA7CD0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0733-CD1E-4D1D-AEC2-9D95AD31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2BFD4-0657-48AF-BD4C-C619F8E3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3E4B-A599-4F25-87F4-3DBB229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4DDC9-4925-4BF6-8C44-F2F4F87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43898-44A0-4D64-B4D8-460AAB1A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425E-3672-4641-844A-DE8AAEBC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CE0E-92B8-4427-BC21-63765A5E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09AB-84AD-4CC4-A809-5E636DD0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4D3-BC95-4592-80A2-BFD6B3CD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507-3AB1-4C92-BC76-0154616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6DF-2E7F-4306-9E11-CB2F081C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1AB-EE90-469E-BBBC-3117C46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B8E-7473-4895-9B04-66268E1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2889-456D-4243-8D62-E6139358F03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6A1C-73B7-4F3E-B429-12A624D0908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19B4-2E0C-4C35-B3C7-397DE37F1B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B3FC-7924-4267-B5A9-4879AF65BF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9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gration by parts can be used to evaluate complex integrals. For each equation, assign parts to variables following the equation belo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1484280" y="2908440"/>
                <a:ext cx="5907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ke the problem below as an example. Assign parts of the integral to be eithe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which part should b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follow the acronym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PE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garithm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ver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ynom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ponential Fun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gonometr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2438280" y="4572000"/>
                <a:ext cx="3751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equation, there are no logarithms or inverse functions, but there is a polynomial. Because of this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    , 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219320" y="1523880"/>
                <a:ext cx="380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600200" y="29718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65520" y="3200400"/>
                <a:ext cx="2978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67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we must solve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do this, differenti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integr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990720" y="2157480"/>
                <a:ext cx="274320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4379760" y="2286000"/>
                <a:ext cx="415476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 back to the equation given on the first slide, and substitute the corresponding parts according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2260440" y="2133720"/>
                <a:ext cx="3873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841920" y="3289320"/>
                <a:ext cx="1460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1752480" y="3594240"/>
                <a:ext cx="4907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case, we are left with another integral which is too complex, meaning we must integrate by parts again. Following the LIPET acronym, u=2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285920" y="2514600"/>
                <a:ext cx="244800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4267080" y="2438280"/>
                <a:ext cx="424044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172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stitute the parts from the second integration into the result from the first integr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609480" y="3352680"/>
                <a:ext cx="79120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020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ally, integrate the last part of the equation, yielding a final answ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338040" y="3276720"/>
                <a:ext cx="8501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4:28:29Z</dcterms:created>
  <dc:creator> </dc:creator>
  <dc:description/>
  <dc:language>en-US</dc:language>
  <cp:lastModifiedBy> </cp:lastModifiedBy>
  <dcterms:modified xsi:type="dcterms:W3CDTF">2009-06-08T14:07:15Z</dcterms:modified>
  <cp:revision>9</cp:revision>
  <dc:subject/>
  <dc:title>Integration by Parts</dc:title>
</cp:coreProperties>
</file>