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92B9-5BBF-4E89-A9C2-F6FEE5E8A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9840-F0DC-473D-92FD-FD2BB85E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23B9-7DB5-4AC7-8271-6AF11D5D8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265E3-3D4E-4647-8773-669A88A87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04900-2AA6-4A7C-8D32-CF3863854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1E65A-04A2-4222-ABA1-F5BF9D4DD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A693-9F37-47DD-8D24-78551FCA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9038-DBF7-4CC9-A085-1F9C45A81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34E3F-5561-49AB-BEB9-EF1432B4F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EEBEE-84AA-46E9-9A8B-F522B1147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D03A-B5D9-4F30-963E-1E7D52F61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9E545-C286-4B19-854D-CC078694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5CCE4-9DFB-4695-A36F-E3B283B08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60C4-9547-447C-9624-AD4D981D1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8B735-F095-49D8-853E-9CCC0E88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37CF-589C-4D4F-9CAE-8AF831284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721E1-D52E-4D46-B7FE-26B3F1FF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BEC98-F1B7-4013-B11D-F8B688C44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02165-87CA-4501-B635-75CFF452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41D9B-1365-4A61-A489-B072B3D7E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87A97-EC78-4C80-B843-7850718C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65DF3-3360-48C0-AE8B-089D478D1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0F32-160B-4232-88FC-D4F9F9E5C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26C95-CB33-4BFE-8EAF-85656AE46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4E095-996D-432E-A71E-A2C71EC3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471611-1F1F-41B8-9C8A-34031E26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60919-7ECF-4CB5-A573-49B9B957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11A9C-5776-472A-83B2-060FBB88A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1B5CD8-B66B-45EB-94C7-7E88222D8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148EA-3E76-42EA-936B-F3B96A77A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0FE8C4-C289-4CBD-9524-788B0F0F2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64B08-548E-4704-BF55-0573C3C3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2AF70-9032-44A2-A3C6-80080331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5380-9990-419B-9AE0-100671698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AFADB-F189-4B8C-8513-817269B68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CDC84-D987-443B-8F5C-2F568D23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CD801-5B20-49E9-A219-D6C6D3D4E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65B1D-133C-4ADE-B812-109E7508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357433-9DD1-4E3B-8BFE-120452A41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18CCED-6B03-4822-BBAF-8FA479F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3BE34B-F291-4C32-9BFA-BDCBB159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54854B-A346-4755-8F23-5BB852B1B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D7871C-7AFE-431B-853E-88E57677D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A1F8-678A-4718-9D65-03F20AE1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7F19-EE98-4A3A-8CC1-5462234B8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9724-5D63-4B98-8F7D-FC3CFE5CF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6845-0EA5-435B-B05C-A2145EEE1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73C4-EB08-467B-A131-C3AFAF14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A0A0-B6DD-42E3-894C-785731F8FB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D008-0655-4107-8048-5D943B0FEBF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899AA-3743-4EBB-AB62-FA2DF1BD6B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00DA9-C1B6-43D2-ACD5-C0527221BD1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gration by parts can be used to evaluate complex integrals. For each equation, assign parts to variables following the equation bel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484280" y="2908440"/>
                <a:ext cx="5907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the problem below as an example. Assign parts of the integral to be eithe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which part should b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follow the acronym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P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arith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ve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ynom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ponential 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onomet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438280" y="4572000"/>
                <a:ext cx="3751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equation, there are no logarithms or inverse functions, but there is a polynomial. Because of this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    , 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219320" y="1523880"/>
                <a:ext cx="380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600200" y="29718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65520" y="3200400"/>
                <a:ext cx="2978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67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e must solve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do this, differenti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integr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990720" y="2157480"/>
                <a:ext cx="274320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379760" y="2286000"/>
                <a:ext cx="415476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 back to the equation given on the first slide, and substitute the corresponding parts according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2260440" y="2133720"/>
                <a:ext cx="3873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841920" y="3289320"/>
                <a:ext cx="146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752480" y="3594240"/>
                <a:ext cx="4907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case, we are left with another integral which is too complex, meaning we must integrate by parts again. Following the LIPET acronym, u=2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285920" y="2514600"/>
                <a:ext cx="24480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267080" y="2438280"/>
                <a:ext cx="424044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172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stitute the parts from the second integration into the result from the first integr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609480" y="3352680"/>
                <a:ext cx="7912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ally, integrate the last part of the equation, yielding a final answ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38040" y="3276720"/>
                <a:ext cx="8501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4:28:29Z</dcterms:created>
  <dc:creator> </dc:creator>
  <dc:description/>
  <dc:language>en-US</dc:language>
  <cp:lastModifiedBy> </cp:lastModifiedBy>
  <dcterms:modified xsi:type="dcterms:W3CDTF">2009-06-08T14:07:15Z</dcterms:modified>
  <cp:revision>9</cp:revision>
  <dc:subject/>
  <dc:title>Integration by Parts</dc:title>
</cp:coreProperties>
</file>